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EB30-7F46-4ED9-86E9-9294E4F7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54D-9F8C-4523-BF93-FCC81A87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D2254-3F52-491F-A751-04B6ABCE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0725B-1F4E-4A8D-ABF6-3A6602FF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F701F-183B-4456-9E21-50BFA91D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44717-B24D-4F22-ADBD-767753E7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3FC4D-7D58-4630-92EC-4812E7C0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44AE1-E65D-42C4-8742-A9F94AB9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81655-6871-4347-B784-DFF64A75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5058E-A052-48F6-8FD8-C7171C69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6E765-8B51-41BF-9886-987427BC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03F94-380A-4103-8376-00908ABB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788-FB06-4A12-ABEB-59726F5D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33457-EEA8-431F-8DB1-4B0C84F8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BA529-7DE1-4481-9558-0BCF8923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427F7-0AFE-40F5-AB78-0DDCB29F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E4955-3449-4BCC-881E-A586A873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C6141-8ECE-410F-B9E3-DA198E43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DDAFB-2DB1-4275-AF7A-64C8DDD5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6EA67-2D9E-4DED-A0B7-2400C9DF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9928A-DF9E-4EBB-B1B4-F117F41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A3496-CDEB-4D4A-96AD-9E56BB74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849EE-573C-4289-BD3E-579ECBA6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C42-2AA9-4289-BD8E-1B2A795D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4F2BE-C18C-4201-A34E-9DEFBA03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706-3EE7-4BFA-9DDA-D37377FE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F8DE-89C2-4D32-BAD8-52553E00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C4A8-F5C0-4E31-8210-9A405390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5B36-BE23-488E-B770-3D7BA3C0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B31A-B112-40C5-99D7-1D773EF5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AFCC-ACAE-4D41-8EAC-7854A6F4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5EAA-2A75-42A5-8E4A-857FA061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829-9E63-4BBA-9F1F-353A055A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F595-F1B5-4869-B572-12EE2EF2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ED1A-DCC0-4530-8A8D-D1063789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D372-2806-4627-8B6D-C2C1F400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4153-4CF4-4DC7-A137-265D89B7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6C9F-732E-4C96-B0B9-A920E150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BD93-91CC-4AE7-A813-F05B8F01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18F6-C39D-4362-8BD6-1398D7E9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3F75-95F5-4C19-AA81-621242BC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648A-5213-4CE7-8FBA-8E4CB333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D07A2-9C38-47AE-A5CB-500B36F6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E79-9E45-4C8F-9EF1-94BC38B3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0377-DD8E-4846-B349-7B0F5C4C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3D82-0282-43BB-8F50-B1712BBE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7407-69EE-46BC-942A-2911E469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09E1-0EE6-4BBC-8359-4C5027B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02BA-4ECB-43B3-B52F-216E386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861F-36FE-4DFB-8836-38C812F4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158E-7763-4AB6-9B20-96122B06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FCD05-4A22-4B45-A469-D704CA99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629FE-11FC-4B0D-819E-988128B4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DF21-1742-4282-82F2-654059EF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0C2-67E7-493F-8CFC-CD6A25E8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20F9-EAE6-474E-9C18-380BA278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4604-543B-41A9-B9D9-2023468A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B878-91CC-40A4-ABDF-6EA07503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5FA50-7234-4834-9513-DC8FE8E2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5D39B-0957-478F-B101-170E656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6147D-7709-40DC-B7DB-50CB0D5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17F4-E151-4C64-A09D-FFC0AC48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ACA6-9AEB-4416-BA6B-9F9BA458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B594-8DBD-4CE1-BFFD-665B92BF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897BC-EAFA-4FB4-93F3-975A32BF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DD2-A92E-4F6B-A270-08E9C607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DED52-AE97-48AA-B9BF-942013F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97C2-4290-4ECB-B12C-611EF79F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DB1C2-8759-43AB-8501-1F065A44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81806-0B2B-432C-8B38-97533A4A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55CE-74CA-4647-AC77-F10D86C4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74D27-B08D-4AC7-9DC3-D8752F1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C713-B018-48B6-9FF7-CC9EA21E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ABE4A-194C-4F6D-AE26-E0B48D8F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52015-F0BE-4346-98EF-CD8839B4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BE6CD-3197-4504-AF71-E7ECA0D1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777-C1AD-4553-A8CD-58D2EE7B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0DD4-09C1-4FDC-9ECC-E9DB6120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F9C96-BC11-42FC-AD44-E1FEEBFE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920EE-AA68-4224-9F1F-C309766F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CE4CC-AE87-47C9-AEF9-5FDDC0D8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F9127-8D91-4D98-B0E4-393327F0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88921-86AF-4D91-A3E2-599B853B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31445-BFAA-46E8-A973-E88503AF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23F12-AAA2-4BA6-9716-EE33C8A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F5FF5-6F45-406D-876C-53E3897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E5201F-FDB3-49CB-843B-B6A872FF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0A9-F4AB-4049-89CA-2B1F3D45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0348F-4BD6-4810-BFE2-8B2C8CE4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4DE89-50F4-44ED-8AB5-3D8FC115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1F2C7-007C-4946-8F48-2AC4335C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E9D92-C822-4D59-8535-456B1044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0A528-661D-47C9-BE79-091ED493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612A5-AA3E-46D3-84FB-D8CE51FA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22372-919A-42C5-B4D7-BD1CA607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CAF2D-D2FE-4087-96B8-07BC5987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8F7A8-E997-4A60-8B2D-AB880CE0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D4AFF-E6C6-4361-811B-BC13F63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510F-0A8F-41B1-A8D9-8F38741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8817A-1A94-4AA2-AAAB-3B8AB69D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D84A9-4C66-406A-B62B-8EA1A3DB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94D6-701E-4C7C-9800-4830CAC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5121F-29C7-43EB-894C-9006CB49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97AE6-DE15-4456-B9EC-49BE5DA9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CB274-9BBA-4C3A-B236-90C8BFAE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2474F-66E0-40C5-A218-8508AD7C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2E347-2BAC-4442-B3B9-D17F4879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EE6B4-5B16-490F-9C55-3BAF1835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6E469-29A3-44C3-91CA-C9199FD3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8DE-C407-4B77-A7E3-050C7B38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7C1A2-8B5E-45D3-8E3D-7FE1A5FE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D748B-E94E-4CDE-AB66-D4F42842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90BAD-D8D6-4C65-8710-5390228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426F-B112-4B4E-AB1D-3231E20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C2F19-3F14-4A73-BEC9-F68C048C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1BC8A-28A1-4B55-8A0B-52FAF85C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F2544-5262-4E54-ABB2-036DCFA2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4BDC1-7C8A-4509-BDFA-931A6B79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F6DF1-9AAB-4368-9775-A81225E8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E86DA-E974-4BE9-857F-5955540D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C4EC-2418-44A7-BB12-3521BA6761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F793-BA3C-4D86-8B28-4F47A81BD7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C4E7-4D31-42DB-AAEB-456D9E1EDF0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A25E-8EF4-4C97-B9D3-B44B8753DD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3AFF-D4B1-4EB4-B8FC-D73ED93B50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0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9D89-1B62-4E67-A23C-498A223B73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6E9A-E650-46ED-B7F0-6D9EA2DA5E2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C917-FDD9-4B7F-A566-3A395076380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5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5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5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31E9-3540-4A94-9056-FB2B34BE0C8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BBC8-BF3A-4DCD-A2AD-759822C695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0"/>
          <p:cNvSpPr/>
          <p:nvPr/>
        </p:nvSpPr>
        <p:spPr>
          <a:xfrm>
            <a:off x="539640" y="836640"/>
            <a:ext cx="81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газа и пара при расшир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гатель внутреннего сгор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5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3889080" cy="38638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12"/>
          <p:cNvSpPr/>
          <p:nvPr/>
        </p:nvSpPr>
        <p:spPr>
          <a:xfrm>
            <a:off x="2124000" y="50846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автомобиль Г.Форда (1892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4BE8640"/>
          <p:cNvPicPr/>
          <p:nvPr/>
        </p:nvPicPr>
        <p:blipFill>
          <a:blip r:embed="rId1"/>
          <a:stretch/>
        </p:blipFill>
        <p:spPr>
          <a:xfrm>
            <a:off x="4645080" y="2289240"/>
            <a:ext cx="38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русский автомобиль с двигателем внутреннего сгорания постро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А. Яковле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 А. Фрезе (1896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012-1"/>
          <p:cNvPicPr/>
          <p:nvPr/>
        </p:nvPicPr>
        <p:blipFill>
          <a:blip r:embed="rId1"/>
          <a:stretch/>
        </p:blipFill>
        <p:spPr>
          <a:xfrm>
            <a:off x="4645080" y="2451240"/>
            <a:ext cx="38894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вые электромоб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7" descr="009-1"/>
          <p:cNvPicPr/>
          <p:nvPr/>
        </p:nvPicPr>
        <p:blipFill>
          <a:blip r:embed="rId1"/>
          <a:stretch/>
        </p:blipFill>
        <p:spPr>
          <a:xfrm>
            <a:off x="4645080" y="2604960"/>
            <a:ext cx="3889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В. Романов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(189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010-1"/>
          <p:cNvPicPr/>
          <p:nvPr/>
        </p:nvPicPr>
        <p:blipFill>
          <a:blip r:embed="rId1"/>
          <a:stretch/>
        </p:blipFill>
        <p:spPr>
          <a:xfrm>
            <a:off x="4645080" y="2327400"/>
            <a:ext cx="38894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ический омнибус «Дукс» (1901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011-1"/>
          <p:cNvPicPr/>
          <p:nvPr/>
        </p:nvPicPr>
        <p:blipFill>
          <a:blip r:embed="rId1"/>
          <a:stretch/>
        </p:blipFill>
        <p:spPr>
          <a:xfrm>
            <a:off x="4645080" y="248112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тория автомобиле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05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уссо – Балт» (1908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34BE8640"/>
          <p:cNvPicPr/>
          <p:nvPr/>
        </p:nvPicPr>
        <p:blipFill>
          <a:blip r:embed="rId1"/>
          <a:stretch/>
        </p:blipFill>
        <p:spPr>
          <a:xfrm>
            <a:off x="3059280" y="2708280"/>
            <a:ext cx="547344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755640" y="162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машнее задание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§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21-2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755640" y="2352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1332000" y="3645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пловые двига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машины, в которых внутренняя энергия топлива превращается в механическую энерг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03280" y="1052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ся с устройством тепловых машин на примере двигателя внутреннего сгор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02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 внутреннего сгор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чень распространенный вид теплового двигателя. Топливо в нем сгорает прямо в цилиндре, внутри самого двигателя. Отсюда и происходит название этого 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линдре такого двигателя периодически происходит сгорание горючей смеси, состоящей из паров бензина и воздуха. Температура газообразных продуктов сгорания достигает 1600 – 180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на поршень при этом резко возрастает. Расширяясь, газы толкают поршень, а вместе с ним и коленчатый вал, совершая при этом механическую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ие положения поршня в цилиндре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ртвыми точк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Расстояние, проходимое поршнем от одной мертвой точки до другой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ом порш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рабочий цикл в двигателе происходит за четыре хода поршня, или, как говорят, з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 так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пуск, сжатие, рабочий ход, выпус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Поэтому такие двигатели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ехтакт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Устройство двигателя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     внутреннего         сгор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2 – клапан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– порш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– шат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– коленчатый 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– мах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- све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154A03EC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повороте вала двигателя в начале первого такта поршень движется вниз. Объем над поршнем увеличивается. Вследствие этого в цилиндре создается разрежение. В это время открывается клапан 1 и в цилиндр входит горючая смесь. К концу первого такта цилиндр заполняется горючей смесью, а клапан 1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3" name="Picture 7" descr="B6FECCDA"/>
          <p:cNvPicPr/>
          <p:nvPr/>
        </p:nvPicPr>
        <p:blipFill>
          <a:blip r:embed="rId1"/>
          <a:stretch/>
        </p:blipFill>
        <p:spPr>
          <a:xfrm>
            <a:off x="4859280" y="1557360"/>
            <a:ext cx="38275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дальнейшем повороте вала поршень движется вверх (второй такт) и сжимает горючую смесь. В конце второго такта, когда поршень дойдет до крайнего верхнего положения, сжатая горючая смесь воспламеняется (от электрической искры) и быстро сгорае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6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7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бразующиеся при сгорании газы давят на поршень и толкают его вниз. Под действием расширяющихся нагретых газов (третий такт) двигатель совершает работу, поэтому этот такт называют рабочим ходом. Движение поршня передается шатуну, а через него коленчатому валу с маховиком. Получив сильный толчок, маховик затем продолжает вращаться по инерции и перемещает скрепленный с ним поршень при последующих тактах. Второй и третий такты происходят при закрытых клапанах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9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та двигателя внутреннего сго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конце третьего такта открывается клапан 2, и через него продукты сгорания выходят из цилиндра в атмосферу. Выпуск продуктов сгорания продолжается и в течение четвертого такта, когда поршень движется вверх. В конце четвертого такта клапан 2 закрывает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2" name="Picture 7" descr="B6FECCDA"/>
          <p:cNvPicPr/>
          <p:nvPr/>
        </p:nvPicPr>
        <p:blipFill>
          <a:blip r:embed="rId1"/>
          <a:stretch/>
        </p:blipFill>
        <p:spPr>
          <a:xfrm>
            <a:off x="5003640" y="1557360"/>
            <a:ext cx="3683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7:46:03Z</dcterms:created>
  <dc:creator>Сергей</dc:creator>
  <dc:description/>
  <dc:language>en-US</dc:language>
  <cp:lastModifiedBy>Олег</cp:lastModifiedBy>
  <dcterms:modified xsi:type="dcterms:W3CDTF">2012-02-21T17:16:54Z</dcterms:modified>
  <cp:revision>22</cp:revision>
  <dc:subject/>
  <dc:title>Физика в профессии водителя</dc:title>
</cp:coreProperties>
</file>